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shee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C43-D1EC-4AFB-BFBB-4327E654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1C6-3059-4734-AB8D-7CB8E67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562-3472-4D80-9E96-77B0FDFA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14B-25B9-4D97-9BD9-CD003008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BF1-C94F-4125-9174-401A4938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28E-1F67-40AF-8193-601F69E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EDB7-4C02-4607-88A7-563C12E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7D87-1BC3-47AD-94CD-B1BFDE0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5376-67B2-45A5-B741-98FFAFD6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0464-7B41-4795-9BAF-99CFBC3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D5D-0DD1-4D96-8B9B-8DC4F79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C72-35BB-4B3F-A8C0-5108DA87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C47A-19D7-4FBB-B124-354D8A87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F2BA-20B3-42D6-ACDC-1E033E2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3F7D-C635-4940-B0F8-56D2E86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FD5-13CE-49E2-B629-67AA23AB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7704-8B16-4EA9-85BC-8B0ADB9C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E8D-BAC3-433B-AD04-F58B9C7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C95-2478-4C69-9070-7E3D11D3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E39-6799-4271-849F-8E233CD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F8C-FA73-492E-9153-51D811C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FC8-7CED-4C4B-9FDE-BC81799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D84-9ED7-42B2-B45C-F8C2E48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C7F-8F1C-4B79-9A04-CD84D26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85D-59C5-4DC1-B991-FE63EDE0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2120" y="798480"/>
            <a:ext cx="7082280" cy="6859440"/>
            <a:chOff x="-312120" y="798480"/>
            <a:chExt cx="7082280" cy="68594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2120" y="798480"/>
              <a:ext cx="7082280" cy="6859440"/>
              <a:chOff x="-312120" y="798480"/>
              <a:chExt cx="7082280" cy="68594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2120" y="798480"/>
                <a:ext cx="7082280" cy="6859440"/>
                <a:chOff x="-312120" y="798480"/>
                <a:chExt cx="7082280" cy="68594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2120" y="798480"/>
                  <a:ext cx="7082280" cy="6859440"/>
                  <a:chOff x="-312120" y="798480"/>
                  <a:chExt cx="7082280" cy="68594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2120" y="798480"/>
                    <a:ext cx="7082280" cy="6859440"/>
                    <a:chOff x="-312120" y="798480"/>
                    <a:chExt cx="7082280" cy="68594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2120" y="805680"/>
                      <a:ext cx="7072560" cy="6852240"/>
                      <a:chOff x="-312120" y="805680"/>
                      <a:chExt cx="7072560" cy="68522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2120" y="805680"/>
                        <a:ext cx="7072560" cy="6852240"/>
                        <a:chOff x="-312120" y="805680"/>
                        <a:chExt cx="7072560" cy="68522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2120" y="1280880"/>
                          <a:ext cx="6462360" cy="6377040"/>
                          <a:chOff x="-312120" y="1280880"/>
                          <a:chExt cx="6462360" cy="637704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6560" y="451800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30600" y="292428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9680" y="240192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6720" y="2118240"/>
                            <a:ext cx="271584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2400" y="155484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58880" cy="4694040"/>
              <a:chOff x="1800" y="2127240"/>
              <a:chExt cx="525888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3880" y="2127240"/>
                <a:ext cx="496800" cy="490320"/>
                <a:chOff x="4763880" y="2127240"/>
                <a:chExt cx="496800" cy="4903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9720" y="2350440"/>
                  <a:ext cx="31428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76920" y="2249280"/>
                  <a:ext cx="25560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2960" y="2238120"/>
                  <a:ext cx="18216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26680" y="2134800"/>
                  <a:ext cx="22860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2480" y="2127240"/>
                  <a:ext cx="8820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1C8C-2408-49A5-B637-2D74993F8F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shee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Plural and Singular Nou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ct LA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become a new word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o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gee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6" descr="goosefam"/>
          <p:cNvPicPr/>
          <p:nvPr/>
        </p:nvPicPr>
        <p:blipFill>
          <a:blip r:embed="rId1"/>
          <a:stretch/>
        </p:blipFill>
        <p:spPr>
          <a:xfrm>
            <a:off x="3581280" y="3962520"/>
            <a:ext cx="3124440" cy="2392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man-think"/>
          <p:cNvPicPr/>
          <p:nvPr/>
        </p:nvPicPr>
        <p:blipFill>
          <a:blip r:embed="rId2"/>
          <a:stretch/>
        </p:blipFill>
        <p:spPr>
          <a:xfrm>
            <a:off x="5181480" y="1447920"/>
            <a:ext cx="2067120" cy="247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an-think"/>
          <p:cNvPicPr/>
          <p:nvPr/>
        </p:nvPicPr>
        <p:blipFill>
          <a:blip r:embed="rId3"/>
          <a:stretch/>
        </p:blipFill>
        <p:spPr>
          <a:xfrm>
            <a:off x="2819520" y="1486080"/>
            <a:ext cx="2057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oo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486400" y="329076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ous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486400" y="329076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re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a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486400" y="329076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lural Nou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A plural form of a noun names more than one.  It usually ends with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e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AutoShape 11">
            <a:hlinkClick r:id="" action="ppaction://hlinkshowjump?jump=nextslide"/>
          </p:cNvPr>
          <p:cNvSpPr/>
          <p:nvPr/>
        </p:nvSpPr>
        <p:spPr>
          <a:xfrm>
            <a:off x="6248520" y="2590920"/>
            <a:ext cx="2057400" cy="205740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553080" y="3367080"/>
            <a:ext cx="1524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 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11" descr="check1x"/>
          <p:cNvPicPr/>
          <p:nvPr/>
        </p:nvPicPr>
        <p:blipFill>
          <a:blip r:embed="rId1"/>
          <a:stretch/>
        </p:blipFill>
        <p:spPr>
          <a:xfrm>
            <a:off x="5943600" y="3200400"/>
            <a:ext cx="17715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ax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nc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1828800" y="2133720"/>
            <a:ext cx="3808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1752480" y="3429000"/>
            <a:ext cx="38124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2133720" y="46483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1676520" y="59436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 a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consonant and a 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d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ad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295280" y="1523880"/>
            <a:ext cx="685800" cy="609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990720" y="403848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8" descr="fries"/>
          <p:cNvPicPr/>
          <p:nvPr/>
        </p:nvPicPr>
        <p:blipFill>
          <a:blip r:embed="rId1"/>
          <a:stretch/>
        </p:blipFill>
        <p:spPr>
          <a:xfrm>
            <a:off x="3048120" y="3809880"/>
            <a:ext cx="3276360" cy="1965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LADIES"/>
          <p:cNvPicPr/>
          <p:nvPr/>
        </p:nvPicPr>
        <p:blipFill>
          <a:blip r:embed="rId2"/>
          <a:stretch/>
        </p:blipFill>
        <p:spPr>
          <a:xfrm>
            <a:off x="3276720" y="1447920"/>
            <a:ext cx="201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v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l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al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ni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523880" y="1447920"/>
            <a:ext cx="381240" cy="60948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600200" y="39625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8" descr="calf"/>
          <p:cNvPicPr/>
          <p:nvPr/>
        </p:nvPicPr>
        <p:blipFill>
          <a:blip r:embed="rId1"/>
          <a:stretch/>
        </p:blipFill>
        <p:spPr>
          <a:xfrm>
            <a:off x="3733920" y="1676520"/>
            <a:ext cx="3400200" cy="249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knife"/>
          <p:cNvPicPr/>
          <p:nvPr/>
        </p:nvPicPr>
        <p:blipFill>
          <a:blip r:embed="rId2"/>
          <a:stretch/>
        </p:blipFill>
        <p:spPr>
          <a:xfrm>
            <a:off x="3886200" y="4241880"/>
            <a:ext cx="35053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.  Some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angaro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angaro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ta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otato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2743200" y="54864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4" name="Picture 8" descr="kangaroo"/>
          <p:cNvPicPr/>
          <p:nvPr/>
        </p:nvPicPr>
        <p:blipFill>
          <a:blip r:embed="rId1"/>
          <a:stretch/>
        </p:blipFill>
        <p:spPr>
          <a:xfrm>
            <a:off x="4800600" y="1295280"/>
            <a:ext cx="2971800" cy="2602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4495680" y="1219320"/>
            <a:ext cx="1067040" cy="533160"/>
          </a:xfrm>
          <a:prstGeom prst="rect">
            <a:avLst/>
          </a:prstGeom>
          <a:solidFill>
            <a:srgbClr val="6e7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Oval 10"/>
          <p:cNvSpPr/>
          <p:nvPr/>
        </p:nvSpPr>
        <p:spPr>
          <a:xfrm>
            <a:off x="3124080" y="3048120"/>
            <a:ext cx="60984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12" descr="potato1"/>
          <p:cNvPicPr/>
          <p:nvPr/>
        </p:nvPicPr>
        <p:blipFill>
          <a:blip r:embed="rId2"/>
          <a:stretch/>
        </p:blipFill>
        <p:spPr>
          <a:xfrm>
            <a:off x="4724280" y="4557600"/>
            <a:ext cx="25146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do not change at all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9" descr="sheep-big"/>
          <p:cNvPicPr/>
          <p:nvPr/>
        </p:nvPicPr>
        <p:blipFill>
          <a:blip r:embed="rId1"/>
          <a:stretch/>
        </p:blipFill>
        <p:spPr>
          <a:xfrm>
            <a:off x="4267080" y="2133720"/>
            <a:ext cx="2381400" cy="19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eer"/>
          <p:cNvPicPr/>
          <p:nvPr/>
        </p:nvPicPr>
        <p:blipFill>
          <a:blip r:embed="rId2"/>
          <a:stretch/>
        </p:blipFill>
        <p:spPr>
          <a:xfrm>
            <a:off x="3200400" y="4267080"/>
            <a:ext cx="274320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01:32:27Z</dcterms:created>
  <dc:creator>Jefferson County Schools</dc:creator>
  <dc:description/>
  <dc:language>en-US</dc:language>
  <cp:lastModifiedBy>HPS</cp:lastModifiedBy>
  <dcterms:modified xsi:type="dcterms:W3CDTF">2012-12-12T19:48:02Z</dcterms:modified>
  <cp:revision>7</cp:revision>
  <dc:subject/>
  <dc:title>Plural and Singular Nouns</dc:title>
</cp:coreProperties>
</file>